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E181A-E3FB-48DC-AD35-468FCF358BD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4B361-2071-483E-9745-2B9B9355758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EAC22-7312-430F-8AB4-24E2C81F72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31638-AE42-4719-84FC-BF781755C75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39A61-F20F-45CE-AF00-4DC35AF1924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8407C-0D9E-4318-92B0-6C2FFF00FED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0F905-5352-4BA5-86BE-FEB287D1C38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489A7-0E56-404B-B8D5-D6658DC3E58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2D8FE-69A8-4C60-896A-BF7F2F1FF7E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1D64A-036B-49C6-BF8E-F8AEF845BA7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FFE76-17BF-40CE-82FF-4A1AC1FB509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B0E6A-9F69-404C-A8E0-D4B1F9E772E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75" name="Picture 3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00B4-1A3A-4EE2-BC41-3023755FEF7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0" y="19098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4"/>
          <a:stretch/>
        </p:blipFill>
        <p:spPr>
          <a:xfrm>
            <a:off x="1752480" y="5002200"/>
            <a:ext cx="5639040" cy="17035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7772400" cy="47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Are multi-stakeholder platforms the answer to demand-driven research on sustainable intensification? The case of Babati,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Hillbur, Per</a:t>
            </a:r>
            <a:r>
              <a:rPr b="1" lang="en-GB" sz="2400" spc="-1" strike="noStrike" baseline="30000">
                <a:solidFill>
                  <a:srgbClr val="000000"/>
                </a:solidFill>
                <a:latin typeface="Cambria"/>
              </a:rPr>
              <a:t>1,3</a:t>
            </a: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 and McCormack, Caitlin</a:t>
            </a:r>
            <a:r>
              <a:rPr b="1" lang="en-GB" sz="2400" spc="-1" strike="noStrike" baseline="30000">
                <a:solidFill>
                  <a:srgbClr val="000000"/>
                </a:solidFill>
                <a:latin typeface="Cambria"/>
              </a:rPr>
              <a:t>2,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baseline="30000">
                <a:solidFill>
                  <a:srgbClr val="000000"/>
                </a:solidFill>
                <a:latin typeface="Cambr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baseline="30000">
                <a:solidFill>
                  <a:srgbClr val="000000"/>
                </a:solidFill>
                <a:latin typeface="Cambri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Malmö University, Swed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Swedish University of Agricultural Sciences (SLU), Swed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baseline="30000">
                <a:solidFill>
                  <a:srgbClr val="000000"/>
                </a:solidFill>
                <a:latin typeface="Cambri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International Institute of Tropical Agriculture (IITA), Arusha, Tanzan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6840" y="2514600"/>
            <a:ext cx="8002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aper explores the challenge to implement sustainable intensification by a combination of science-driven promotion of agricultural technologies and a demand-driven process in a local organizational contex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what ways do research-for-development (R4D) platforms respond to the need for demand-driven research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are the barriers and opportunities for R4D platforms to support a research program on sustainable agricultural intensifica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overall performance of the R4D platform approach in a local context in terms of provision of a demand-driven approach to sustainable intensifica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Calibri"/>
              </a:rPr>
              <a:t>Introduction and objec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0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 of a local R4D platform (JUMBA) based on project documentation and 14 semi-structured interviews with key stakeholders in the proces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alysis: three dimensions of platform 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>
              <a:spcBef>
                <a:spcPts val="499"/>
              </a:spcBef>
              <a:buClr>
                <a:srgbClr val="ec821c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tform establishment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>
              <a:spcBef>
                <a:spcPts val="499"/>
              </a:spcBef>
              <a:buClr>
                <a:srgbClr val="ec821c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tform functioning, 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>
              <a:spcBef>
                <a:spcPts val="499"/>
              </a:spcBef>
              <a:buClr>
                <a:srgbClr val="ec821c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tform outcom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addition to these dimensions, we have added a relational dimension to explore how platform members build networks and relations within and outside the platform itself. The relational dimension is essential to understand the platform’s potential for long-term impac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Research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000000"/>
                </a:solidFill>
                <a:latin typeface="Calibri"/>
              </a:rPr>
              <a:t>Establishment – origin and structur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Close link between JUMBA and Africa RISING – sometimes confl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High representative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000000"/>
                </a:solidFill>
                <a:latin typeface="Calibri"/>
              </a:rPr>
              <a:t>Functioning – communication and coordinati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The role and capacity of the management committ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Communication – a major challenge: + and 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Lack of facilitation – financial and capacity buil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000000"/>
                </a:solidFill>
                <a:latin typeface="Calibri"/>
              </a:rPr>
              <a:t>Outcom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Scoping activity; Objectives and work plan for 15/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ted part of Babati District Council annual budget and activity pl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Generally few tangible outcomes on the 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000000"/>
                </a:solidFill>
                <a:latin typeface="Calibri"/>
              </a:rPr>
              <a:t>Relat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Strengthening local networ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Connecting to District Council - sustain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Main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Future relation JUMBA - Africa RIS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Membership contrib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Leadership and coordination; capacity buil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Private sector involv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Ward level platforms to reach far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800" spc="-1" strike="noStrike">
                <a:solidFill>
                  <a:srgbClr val="000000"/>
                </a:solidFill>
                <a:latin typeface="Calibri"/>
              </a:rPr>
              <a:t>Discuss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80600" y="2205000"/>
            <a:ext cx="8147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R4DPs have considerable potential for sustainable intensification – capacity building and conflict resolution – locally developed objec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Not independent/mature yet – need for facili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Closer to the farmers – ward level essent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Social (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armer groups, social capital, gender equ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(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duc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Calibri"/>
              </a:rPr>
              <a:t>Conclusion and relevance to SI dimens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5T08:08:26Z</dcterms:created>
  <dc:creator>IZeledon</dc:creator>
  <dc:description/>
  <dc:language>en-US</dc:language>
  <cp:lastModifiedBy>Odhong, Jonathan (IITA)</cp:lastModifiedBy>
  <cp:lastPrinted>2011-10-06T11:45:23Z</cp:lastPrinted>
  <dcterms:modified xsi:type="dcterms:W3CDTF">2016-07-03T13:33:22Z</dcterms:modified>
  <cp:revision>87</cp:revision>
  <dc:subject/>
  <dc:title>Slide 1</dc:title>
</cp:coreProperties>
</file>